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5EF-E2EA-4B85-AB7B-756BAD75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EBF-9E54-46BA-9879-D7512468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DB1-D01E-4F5B-97D0-0CE3AB07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59A-8F12-4CC2-901E-AC698BD2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D0E-A376-4EDC-A3C5-DFB7BC30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236-3269-4B41-9EF7-BDF3FDAD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C7A-5175-45F1-B6AD-29E7490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55C-2D4C-4FD3-9250-4CD22222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22A-4987-46FD-BFDD-55C49EB4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BAA-5CAC-48BE-BC58-049539FE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72D-3B24-45A5-A2B7-CCA3A7CA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81D-EB1A-4C5D-B739-6BE2005A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A7C8-C938-4837-9001-0399E6C7C51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58920" y="220500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应用问题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"/>
          <p:cNvSpPr/>
          <p:nvPr/>
        </p:nvSpPr>
        <p:spPr>
          <a:xfrm>
            <a:off x="785880" y="111600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修路队修一条环山水渠，计划每天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修完，实际每天比计划多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实际多少天可以修完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"/>
          <p:cNvSpPr/>
          <p:nvPr/>
        </p:nvSpPr>
        <p:spPr>
          <a:xfrm>
            <a:off x="2571840" y="257184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实际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可以修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14720" y="30718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×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3143160" y="35481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×1.2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2786040" y="39765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3328920" y="438300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2500200" y="483408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实际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可以修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143000" y="314316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道题里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定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关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93840" y="1092240"/>
            <a:ext cx="7821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自行车商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采购一批自行车，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辆数是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辆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便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多少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6072120" y="3143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398600" y="35481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139920" y="3571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3214800" y="31194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1179360" y="4189320"/>
            <a:ext cx="69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值的比等于相对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数值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2143080" y="5214960"/>
            <a:ext cx="4857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单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1"/>
          <p:cNvSpPr/>
          <p:nvPr/>
        </p:nvSpPr>
        <p:spPr>
          <a:xfrm>
            <a:off x="3571920" y="316692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3214800" y="37512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÷1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2357280" y="47973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0000÷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辆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1643040" y="528624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3214800" y="4322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3840" y="878040"/>
            <a:ext cx="7821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自行车商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采购一批自行车，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辆数是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辆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便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多少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2071800" y="2643120"/>
            <a:ext cx="4857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单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857160" y="2214720"/>
            <a:ext cx="49291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1643040" y="576252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有其他方法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2143080" y="33577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单价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3000240" y="39290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"/>
          <p:cNvSpPr/>
          <p:nvPr/>
        </p:nvSpPr>
        <p:spPr>
          <a:xfrm>
            <a:off x="3500280" y="48340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2428920" y="523872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0000÷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辆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714680" y="57276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3000240" y="43578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3840" y="878040"/>
            <a:ext cx="7821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自行车商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采购一批自行车，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辆数是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辆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便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多少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2071800" y="2762280"/>
            <a:ext cx="4857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单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9"/>
          <p:cNvSpPr/>
          <p:nvPr/>
        </p:nvSpPr>
        <p:spPr>
          <a:xfrm>
            <a:off x="785880" y="2143080"/>
            <a:ext cx="492912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28760" y="1000080"/>
            <a:ext cx="792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有一批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计划每天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改进烧煤方法后，每天节约用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这些煤可以烧多少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857160" y="2505240"/>
            <a:ext cx="817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道题里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定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关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6516720" y="2505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烧煤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390680" y="29098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煤天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530520" y="2909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946240" y="25002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煤的总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857160" y="3618000"/>
            <a:ext cx="7572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烧煤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值的比等于相对应的两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煤天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值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428760" y="1000080"/>
            <a:ext cx="792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有一批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计划每天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改进烧煤方法后，每天节约用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这些煤可以烧多少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928800" y="2475000"/>
            <a:ext cx="7215120" cy="520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步骤一：原计划每天烧煤量与实际每天烧煤量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圆角矩形 9"/>
          <p:cNvSpPr/>
          <p:nvPr/>
        </p:nvSpPr>
        <p:spPr>
          <a:xfrm>
            <a:off x="1214280" y="3643200"/>
            <a:ext cx="7072560" cy="642960"/>
          </a:xfrm>
          <a:prstGeom prst="roundRect">
            <a:avLst>
              <a:gd name="adj" fmla="val 16667"/>
            </a:avLst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）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 10"/>
          <p:cNvSpPr/>
          <p:nvPr/>
        </p:nvSpPr>
        <p:spPr>
          <a:xfrm>
            <a:off x="3714840" y="428616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4"/>
          <p:cNvSpPr/>
          <p:nvPr/>
        </p:nvSpPr>
        <p:spPr>
          <a:xfrm>
            <a:off x="857160" y="2428920"/>
            <a:ext cx="7215120" cy="520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步骤二：原计划烧的天数与实际烧的天数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28760" y="1000080"/>
            <a:ext cx="792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有一批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计划每天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改进烧煤方法后，每天节约用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这些煤可以烧多少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2786040" y="353844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实际可以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3"/>
          <p:cNvSpPr/>
          <p:nvPr/>
        </p:nvSpPr>
        <p:spPr>
          <a:xfrm>
            <a:off x="3643200" y="41101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×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4"/>
          <p:cNvSpPr/>
          <p:nvPr/>
        </p:nvSpPr>
        <p:spPr>
          <a:xfrm>
            <a:off x="3786120" y="4979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5"/>
          <p:cNvSpPr/>
          <p:nvPr/>
        </p:nvSpPr>
        <p:spPr>
          <a:xfrm>
            <a:off x="2357280" y="543096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些煤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6"/>
          <p:cNvSpPr/>
          <p:nvPr/>
        </p:nvSpPr>
        <p:spPr>
          <a:xfrm>
            <a:off x="3643200" y="45385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5"/>
          <p:cNvSpPr/>
          <p:nvPr/>
        </p:nvSpPr>
        <p:spPr>
          <a:xfrm>
            <a:off x="1000080" y="10000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答下列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1000080" y="154152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路程一定，甲车与乙车的速度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: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甲车与乙车行驶的时间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1000080" y="2928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生产一批药品，实际每天产量是原计划每天产量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实际生产时间与原计划生产时间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000080" y="471636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项工程，甲队独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乙队独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甲队与乙队的工作效率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2857680" y="24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2857680" y="424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2928960" y="564840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714240" y="9399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学们爬山，上山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下山时从原路返回，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"/>
          <p:cNvSpPr/>
          <p:nvPr/>
        </p:nvSpPr>
        <p:spPr>
          <a:xfrm>
            <a:off x="714240" y="18572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山时间与下山时间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714240" y="26431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山、下山共用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，上山、下山各用了多少分钟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642960" y="57150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爬山的路程是多少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2857680" y="221472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3214800" y="3143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上山用了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500280" y="357192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4071960" y="40006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4214880" y="44766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3286080" y="4857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分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1"/>
          <p:cNvSpPr/>
          <p:nvPr/>
        </p:nvSpPr>
        <p:spPr>
          <a:xfrm>
            <a:off x="1428840" y="5310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上山用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，下山用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2"/>
          <p:cNvSpPr/>
          <p:nvPr/>
        </p:nvSpPr>
        <p:spPr>
          <a:xfrm>
            <a:off x="5072040" y="571500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×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41:51Z</dcterms:created>
  <dc:creator/>
  <dc:description/>
  <dc:language>en-US</dc:language>
  <cp:lastModifiedBy/>
  <dcterms:modified xsi:type="dcterms:W3CDTF">2017-03-15T06:33:36Z</dcterms:modified>
  <cp:revision>1</cp:revision>
  <dc:subject/>
  <dc:title/>
</cp:coreProperties>
</file>